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8A7-2839-42AC-B247-FBB945F0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6BD-B8E8-4139-A3FB-8C86749D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686-DEE7-4A83-B49A-9C10954A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938-A7A6-429B-84D9-A8C38473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A786-7F91-4171-B639-3977C3DE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C439-FECF-4ACF-9440-34EE1FD6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129B-80E6-4AAE-967F-66783DB0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26C6-38A5-4ACB-A6CC-95591C96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47AF-8AB8-4234-999B-9E705FDE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9075-8F1C-4A4B-9559-9301A018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AA7B-9DFA-44B3-BC61-ED430918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2EC-E934-42FE-AA8D-EE3B2E85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37DF-11F5-4F19-87D8-9BD0C816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81F7-4EBB-4B46-8894-4551CFC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D49E-2B38-4111-A6F0-32511E76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B114-EACE-4DB2-AAAE-1D3B1948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750E-8519-417B-A11E-76CD0046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35C-0549-495B-87C5-81B105F6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7D6-77A5-4458-956E-3C0A09EE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000-F242-44D2-9CF9-4EA5136F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B4B-9A82-4A2B-8888-0FA595AC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CBF-95BD-452D-9B4C-AAEAB99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21F-C1DF-46F9-83D1-33632A6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ED9-43B5-417C-9E8A-030D3910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5F4F-B14B-4ED4-A270-34881BC7E37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84B2-498D-46C1-A5FB-EDE86562FE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D1E9-C308-45E4-9719-F742603E36A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D228-CD13-438B-8AC5-2C27E2915D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Elizabeth I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895120" y="182880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. 1558-16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lizzy1" descr=""/>
          <p:cNvPicPr/>
          <p:nvPr/>
        </p:nvPicPr>
        <p:blipFill>
          <a:blip r:embed="rId1"/>
          <a:stretch/>
        </p:blipFill>
        <p:spPr>
          <a:xfrm>
            <a:off x="3625920" y="2743200"/>
            <a:ext cx="259884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2CC1-DA32-4BF3-AB1D-519A26F159F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B72E9BF-AF57-4739-ACC9-E24373C4CE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80"/>
                </a:solidFill>
                <a:latin typeface="Arial Narrow"/>
              </a:rPr>
              <a:t>Events of Her Reig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se good advisors (ex: William Cecil, secretary and treasurer, 40 years of serv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pt England at peace during her re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8EE-58BC-46AD-97C6-B8769F3FC7D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24C63-AE68-4322-BC18-6DD5B5086C8C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 Narrow"/>
              </a:rPr>
              <a:t>Eve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y…Stabilized economy by reissuing coins that were not de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English enterprise and comme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nings of the Age of Expl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B9B-4E62-4FD4-9199-E21CC39F6B1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E71E9-3826-4030-8B02-EA18762F2680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 Narrow"/>
              </a:rPr>
              <a:t>Eve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a strong Na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Defended nation against Philip’s Spanish Armada (1588).  This was the high point of her reign and helped unite the 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DB1-085C-424A-ABF7-1BE7343BEF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C6C51-3F84-45AB-9FAD-5C64BF0E9E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 Narrow"/>
              </a:rPr>
              <a:t>Eve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 Renaiss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etry &amp; Drama: Shakespeare, Edmund Spenser, Christopher Marlo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shakesbig" descr=""/>
          <p:cNvPicPr/>
          <p:nvPr/>
        </p:nvPicPr>
        <p:blipFill>
          <a:blip r:embed="rId1"/>
          <a:stretch/>
        </p:blipFill>
        <p:spPr>
          <a:xfrm>
            <a:off x="5486400" y="3962520"/>
            <a:ext cx="192096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93D-56A0-45EC-AA03-483C8B93FA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B3997-42B0-4751-9A4F-DC21350561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??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events from Elizabeth’s rule show that she governe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bsolutel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0DE-872C-4DC8-B4FF-B448022896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D8CE2-42FD-4A94-ADDB-8A3E9CBD41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Arial Narrow"/>
              </a:rPr>
              <a:t>Examples of Absolute Rul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d she was a queen b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vin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ough God hath raised me high, yet this I count the glory of my crown: that I have reigned with your loves…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Quote from Elizabeth to her peop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E27-1C9A-4166-BD95-2C27898D20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5415C-4C8B-4989-B9BE-8FF94D0756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Arial Narrow"/>
              </a:rPr>
              <a:t>Absolute Ru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ed royal government (ex: sheriffs and justices of the peace carried out tasks of local gov’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C83-1E0D-44AF-ABEA-BA1629D4D1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E0A90-CA9F-4675-A468-9C00B330BD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Arial Narrow"/>
              </a:rPr>
              <a:t>Absolute Ru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cousin Mary, Queen of Scots, killed for plotting against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mary_prison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260352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8F7-B4A4-4E4E-ADC0-2E08B97C78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C4205-4F91-4137-AE78-C9AFF525F6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Arial Narrow"/>
              </a:rPr>
              <a:t>Absolute Ru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d her subjects to eat fish on Friday’s in an attempt to build a skilled naval fl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brig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236232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DA4-3B34-43EB-BC4D-B161FB68F8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6EEC5-3973-4493-91D2-F563593986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??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omparison with the othe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BSOLUTE MONARC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e have studied, how well did Elizabeth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Liz%20and%20sceptor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1919160" cy="266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142-FD9F-408F-BC99-83F88852F6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32E28-59E9-4D76-BE8C-8096420A4E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ersonal Characteristi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1533-D. 160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ughter of Henry VIII and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fe, Anne Boley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st reigning English monarch in nearly 2 centuries;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oman to successfully occupy English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henry-VIII_image1" descr=""/>
          <p:cNvPicPr/>
          <p:nvPr/>
        </p:nvPicPr>
        <p:blipFill>
          <a:blip r:embed="rId1"/>
          <a:stretch/>
        </p:blipFill>
        <p:spPr>
          <a:xfrm>
            <a:off x="3962520" y="3276720"/>
            <a:ext cx="1333440" cy="1323720"/>
          </a:xfrm>
          <a:prstGeom prst="rect">
            <a:avLst/>
          </a:prstGeom>
          <a:ln w="0">
            <a:noFill/>
          </a:ln>
        </p:spPr>
      </p:pic>
      <p:pic>
        <p:nvPicPr>
          <p:cNvPr id="91" name="boleyn-main2" descr=""/>
          <p:cNvPicPr/>
          <p:nvPr/>
        </p:nvPicPr>
        <p:blipFill>
          <a:blip r:embed="rId2"/>
          <a:stretch/>
        </p:blipFill>
        <p:spPr>
          <a:xfrm>
            <a:off x="6172200" y="34290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9E8A-DCE0-41F4-9CFD-3505BFC891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9BF99-7D81-4FA2-8313-F989F913A049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Liz-signature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902560" cy="290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FB8-2392-4ADA-BA04-E1DAA72CEEE6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01A26-1588-4568-8A4F-2A56A26F5E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ersonal Char. Cont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du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Given better than usual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st tutors, spok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languag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her people &amp; they love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Visited with her people, gave great impromptu spee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A48-F54B-417D-8800-D47B7A2279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F3F02-F154-4423-B694-76AAD0F2C918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ersonal Char. Cont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effectively with Parliament and Privy Council (small advisory body of important state offici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408-0FA0-469C-AE72-25D7CD26C4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5AED9-1CD1-442D-AFD5-DC62268D3F38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ntinued…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 Quee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Never married so she would not have to share power, and to keep pe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produced an heir (la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Tudor monarc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gested she marry Phili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 of Spain (half-sister Mary’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ba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CB4-BF2F-429D-AAD6-D72FC58CBA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33D90-A7DA-4780-9015-35D7CBC5BE46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ntinued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aborate 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QueenEliz" descr=""/>
          <p:cNvPicPr/>
          <p:nvPr/>
        </p:nvPicPr>
        <p:blipFill>
          <a:blip r:embed="rId1"/>
          <a:stretch/>
        </p:blipFill>
        <p:spPr>
          <a:xfrm>
            <a:off x="4191120" y="2479680"/>
            <a:ext cx="4267080" cy="392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B9C-F61A-404B-9535-4634D14009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0064E-B68F-4E77-A3D7-178A2F270777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??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parts of Elizabeth’s character would help her to become a powerful monar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BD10832_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4038840" cy="26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DC9-CC89-4191-A60A-804E7471CE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FEB04-4712-42E4-AAD0-07161764D8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8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 Narrow"/>
              </a:rPr>
              <a:t>Religious Polic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otestant who saw her people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l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not Protestant or Catho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French Protestants struggling for religious freedom under Catholic Monarch (1562-156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BCC-1401-4223-A6CD-C86EE5C2CA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549C0-1F48-425E-89CB-72231784FE90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??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ould Elizabeth’s religious policies cause problems at home and/or abro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BL00921_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142560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5D7-1F3F-4E97-A726-949438DCF4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7DA9E-BC6C-4878-A26F-EBFE47E77D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braman</cp:lastModifiedBy>
  <dcterms:modified xsi:type="dcterms:W3CDTF">2003-09-15T19:54:34Z</dcterms:modified>
  <cp:revision>7</cp:revision>
  <dc:subject/>
  <dc:title>PowerPoint Presentation</dc:title>
</cp:coreProperties>
</file>